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CA4-E687-4537-8E78-89FF0152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B409-F4E6-4C9B-A96A-D1E7B7768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096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548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44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096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548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61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a57a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2" marL="105408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3" marL="143496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4" marL="1816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5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6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2" name="Picture 18" descr=""/>
          <p:cNvPicPr/>
          <p:nvPr/>
        </p:nvPicPr>
        <p:blipFill>
          <a:blip r:embed="rId2"/>
          <a:stretch/>
        </p:blipFill>
        <p:spPr>
          <a:xfrm>
            <a:off x="0" y="6216480"/>
            <a:ext cx="96372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TextBox 2"/>
          <p:cNvSpPr/>
          <p:nvPr/>
        </p:nvSpPr>
        <p:spPr>
          <a:xfrm>
            <a:off x="7010280" y="6073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362-B1B6-47FB-876D-653772C47120}" type="slidenum">
              <a:rPr b="0" lang="en-US" sz="1400" spc="-1" strike="noStrike">
                <a:solidFill>
                  <a:srgbClr val="1114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1024b"/>
              </a:gs>
              <a:gs pos="100000">
                <a:srgbClr val="090c85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0948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8520" y="1090440"/>
            <a:ext cx="2876760" cy="798696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191120" y="2666880"/>
            <a:ext cx="4000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INTERNATIONAL HUMAN RESOURC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Y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180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M Strategy Formulation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ral trade-off pits pressures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raliz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ainst the need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entral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tion is very similar to the notion of integration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ntralization is similar to the notion of local responsiveness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parent-company policies and procedures throughout a firm’s global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al and institutional differences play a role in the matter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599840"/>
            <a:ext cx="8207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effectiveness of an IHRM strategy is contingent on the context in which it is used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HRM strategy’s effect on organizational effectiveness is always dependent on how well the IHRM strateg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, and supports, a MNE’s business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 (CONT.)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16280" y="1347840"/>
          <a:ext cx="5524200" cy="4556160"/>
        </p:xfrm>
        <a:graphic>
          <a:graphicData uri="http://schemas.openxmlformats.org/drawingml/2006/table">
            <a:tbl>
              <a:tblPr/>
              <a:tblGrid>
                <a:gridCol w="2689200"/>
                <a:gridCol w="2835000"/>
              </a:tblGrid>
              <a:tr h="24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is tightly connected with headquarters with very little freedom to adapt to the local condi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NE with this type of IHRM strategy is more likely have a transition HR function with considerably more control over HR decision making than autonomous IHRM strategy but less than in a receptive IHRM strateg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208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has the freedom to develop and implement its own IHRM policies and practices that support local rules and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79" name="Up Arrow 3"/>
          <p:cNvSpPr/>
          <p:nvPr/>
        </p:nvSpPr>
        <p:spPr>
          <a:xfrm>
            <a:off x="38412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4"/>
          <p:cNvSpPr/>
          <p:nvPr/>
        </p:nvSpPr>
        <p:spPr>
          <a:xfrm>
            <a:off x="3048120" y="6146640"/>
            <a:ext cx="2895480" cy="3812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47640" y="3124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462480" y="5904000"/>
            <a:ext cx="25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arch on SIHR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280" y="144792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Research on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culture and national managerial orientation influence the nature of HR practi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gree of global mindset influences the nature of an MNE’s global strategy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bal strategy influences the degree of global focus in the HR strategy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global HR practices are associated with better organizational performan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LS/FRAMEWORKS FOR UNDERSTANDING SIHRM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" y="15235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effort to understand the role of IHRM in MNEs, scholars and researchers have suggested several SIHRM models or framework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has five parts: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47d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MNE component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ogenous factor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ogenous facto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HRM issues, functions, and policies and practice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E concerns and goal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RNING OBJECTIVES</a:t>
            </a:r>
            <a:endParaRPr b="0" lang="en-US" sz="32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6440" y="1371240"/>
            <a:ext cx="8205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evelopment of SIHRM and the process of international strategic management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evolution of the MNE in terms of various stages of internationalization and the methods firms use to enter international market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process for developing MNE strategy and IHRM strategy and the relationship between the two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tent and nature of research into the practice of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ATEGIC INTERNATIONAL HUMAN RESOURCE MANAGEMENT</a:t>
            </a: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6440" y="1557000"/>
            <a:ext cx="8205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HRM focuses on creating and implementing IHRM policies and practices that help achieve an MNE’s international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the strategic management of the IHR function and department itself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ideal world, a firm conducting international business will be actively engaged in strategic planning and strategic management process on a global basis (see Figure 2.1)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signals an organization’s commitment to specific markets, competitive approaches, and ways of operating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OLU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LTINATIONAL ENTERPRI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firm internationalizes, it moves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stage it must make a choice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thods for market entr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ach stage, the degree of international activity increases and IHRM responsibilities become increasingly complex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IZATION PROCESS AND METHODS FOR MARKET ENTRY WITHIN THE FIVE STAGES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06520" y="1163520"/>
            <a:ext cx="80946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direction for managing various subsidiari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ily guided by the extent o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responsive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quired by the firm to manage its worldwide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the subsidiaries and the headquarters develop a unified whol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responsiveness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subsidiaries respond to local differenc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STRATEGIC BUSINESS APPROACH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28800" y="1600200"/>
          <a:ext cx="5257800" cy="3673440"/>
        </p:xfrm>
        <a:graphic>
          <a:graphicData uri="http://schemas.openxmlformats.org/drawingml/2006/table">
            <a:tbl>
              <a:tblPr/>
              <a:tblGrid>
                <a:gridCol w="2558880"/>
                <a:gridCol w="269892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fied strategy implemented for all countries regardless of their cultural and national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imizes responsiveness and integration by being global and multi-domestic at the sam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plest business strategy, requiring limited local responsiveness and limited inte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ti-Dome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ds to the high needs, values, and demands of a local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65" name="Up Arrow 3"/>
          <p:cNvSpPr/>
          <p:nvPr/>
        </p:nvSpPr>
        <p:spPr>
          <a:xfrm>
            <a:off x="45720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3048120" y="57913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62120" y="312408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2680" y="5486400"/>
            <a:ext cx="22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QUARTERS’ INTERNATIONAL ORIENTATION AND 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809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ORIENTATION OF SENIOR EXECUTIVES</a:t>
            </a: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180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 use a home-country standard as a reference in managing international activiti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ycentrism or Regi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st-country cultures and practices assume increased salience for manage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’ outlook is one of creating a global network among various elements of the global organ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51:13Z</dcterms:created>
  <dc:creator>szilagyij</dc:creator>
  <dc:description/>
  <dc:language>en-US</dc:language>
  <cp:lastModifiedBy>Windows User</cp:lastModifiedBy>
  <dcterms:modified xsi:type="dcterms:W3CDTF">2015-08-14T17:11:41Z</dcterms:modified>
  <cp:revision>127</cp:revision>
  <dc:subject/>
  <dc:title>Slide 1</dc:title>
</cp:coreProperties>
</file>